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A2C9-8E44-4E36-9E8A-EFE02DD9B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CB21-1DBD-423F-8502-41D4393DB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4D5E-AD54-4326-8C42-A4C376577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5F53-62CE-4105-9B93-729C36A5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9A87-34DC-4861-96C4-6724F7980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BE53-B084-4320-990E-2A8D3A9A3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3271-4C5C-4894-BEAD-7E272C2BD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60DE-3D41-490B-8A96-D23E40AA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52E0-4C43-42FF-B33E-E98503FAF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466-CEED-4FF1-8FA9-AF407DC2A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060C-406E-4797-8E26-00C55D34B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801D-5FD5-403E-9B38-421A44088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F0DD-F9F3-4F22-80AB-C27620E4C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7BA1-D34D-4CA1-A31C-700764DD8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B90C-B59F-4126-A888-81EB9FE96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6558-0048-4CDB-8DD0-D8938179F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6AFE-862C-49C0-9A31-6902C3D1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280" y="3982680"/>
            <a:ext cx="8839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9826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800" y="39826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280" y="39826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1000" y="39826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0080" y="398268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280" y="39826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800" y="39826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05480"/>
            <a:ext cx="8839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982680"/>
            <a:ext cx="8839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package" Target="../embeddings/oleObject1.xlsx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882720"/>
            <a:ext cx="4648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irtual Observato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Quick Overview, and Some Lessons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342900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101a"/>
                </a:solidFill>
                <a:latin typeface="Times New Roman"/>
              </a:rPr>
              <a:t>S. George Djorgov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9101a"/>
                </a:solidFill>
                <a:latin typeface="Times New Roman"/>
              </a:rPr>
              <a:t>Calte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228600" y="5638680"/>
            <a:ext cx="97956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"/>
          <a:srcRect l="0" t="0" r="0" b="5349"/>
          <a:stretch/>
        </p:blipFill>
        <p:spPr>
          <a:xfrm>
            <a:off x="4876920" y="76320"/>
            <a:ext cx="4211640" cy="670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600200" y="5791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IP Worksho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CSB, Jul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533520" y="1522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cientific Roles and Benefits of a 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litate science with massive data s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bservations and theory/simulations)             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efficiency amp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added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federated data s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, multi-wavelength, multi-scale, multi-epoch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over the knowledge which is present in the data, but can be uncovered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hrough data fu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able and stimulate some </a:t>
            </a:r>
            <a:r>
              <a:rPr b="1" i="1" lang="en-US" sz="2800" spc="-1" strike="noStrike">
                <a:solidFill>
                  <a:srgbClr val="a9101a"/>
                </a:solidFill>
                <a:latin typeface="Times New Roman"/>
              </a:rPr>
              <a:t>qualitatively new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 sc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massive data sets (not just old-but-bigg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imize the use of expensive re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, space missions, large ground-based telescopes, computing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R&amp;D drivers, application testbeds, and stimulus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nering discipl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S/IT, statistics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281480" y="1571760"/>
            <a:ext cx="747720" cy="257040"/>
          </a:xfrm>
          <a:prstGeom prst="rightArrow">
            <a:avLst>
              <a:gd name="adj1" fmla="val 50000"/>
              <a:gd name="adj2" fmla="val 72724"/>
            </a:avLst>
          </a:prstGeom>
          <a:solidFill>
            <a:srgbClr val="fffc0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8600" y="2286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O Represents a New Type of a Scientific  Organization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or the era of information abund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2860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yet another data center, archive, mission, or a traditional project            </a:t>
            </a:r>
            <a:r>
              <a:rPr b="1" i="1" lang="en-US" sz="3000" spc="-1" strike="noStrike">
                <a:solidFill>
                  <a:srgbClr val="9c0808"/>
                </a:solidFill>
                <a:latin typeface="Times New Roman"/>
              </a:rPr>
              <a:t>It does not fit into any of the usual organizational structu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inherently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tributed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web-centr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fundamentally based on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pidly developing technolog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IT/C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transcends the traditional boundar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between different wavelength regimes, agency doma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has a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usually broad range of constitu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interfa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inherently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disciplin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886200" y="2562120"/>
            <a:ext cx="671400" cy="333360"/>
          </a:xfrm>
          <a:prstGeom prst="rightArrow">
            <a:avLst>
              <a:gd name="adj1" fmla="val 50000"/>
              <a:gd name="adj2" fmla="val 50351"/>
            </a:avLst>
          </a:prstGeom>
          <a:solidFill>
            <a:srgbClr val="ffff2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oader and Societal Benefits of a 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04920" y="990720"/>
            <a:ext cx="84582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essional Empowerment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sts and students anywhere with an internet connection would be able to do  a first-rate science              A broadening of the talent pool in astronomy, democratization of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disciplinary Ex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hallenges facing the VO are common to most sciences and other fields of the modern human endeav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llectual cross-fertilization, feedback to IT/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and Public Outre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precedented opportunities in terms of the content, broad geographical and societal range, at all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tronomy as a magnet for the CS/IT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Weapons of Mass Instru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4129200" y="1876320"/>
            <a:ext cx="747720" cy="257400"/>
          </a:xfrm>
          <a:prstGeom prst="rightArrow">
            <a:avLst>
              <a:gd name="adj1" fmla="val 50000"/>
              <a:gd name="adj2" fmla="val 72622"/>
            </a:avLst>
          </a:prstGeom>
          <a:solidFill>
            <a:srgbClr val="fffc0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O Education and Public Outreach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94" name="Picture 3" descr="GoogleSkyAndromeda"/>
          <p:cNvPicPr/>
          <p:nvPr/>
        </p:nvPicPr>
        <p:blipFill>
          <a:blip r:embed="rId1"/>
          <a:srcRect l="0" t="3142" r="0" b="0"/>
          <a:stretch/>
        </p:blipFill>
        <p:spPr>
          <a:xfrm>
            <a:off x="289080" y="882720"/>
            <a:ext cx="8778600" cy="59752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123840" y="2666880"/>
            <a:ext cx="3076560" cy="2068920"/>
          </a:xfrm>
          <a:prstGeom prst="rect">
            <a:avLst/>
          </a:prstGeom>
          <a:solidFill>
            <a:srgbClr val="fbff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’s World Wide Telescop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gle Sky: use DSS, SDSS, HST data, etc., for easy sky 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O Functionality Today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 did so f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progress on interoperability, standard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ipi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grid of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useful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training, E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 did not do (ye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data exploration and mining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 where the science will come from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us, little VO-enabled science so f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us, a slow community buy-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9101a"/>
                </a:solidFill>
                <a:latin typeface="Monotype Sorts"/>
                <a:ea typeface="Monotype Sorts"/>
              </a:rPr>
              <a:t>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9101a"/>
                </a:solidFill>
                <a:latin typeface="Times New Roman"/>
              </a:rPr>
              <a:t>Development of powerful, usable knowledge discovery tools should be a key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Evolving Sociology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ransitioned from the data poverty regime into an era of exponential data abun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tronomers do not seem too fully realiz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rietary periods should be re-thought; there are other modes of data access rights currencies, different scenar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070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Data are cheap, but the expertise is expen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creativity is price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scopes are just the hardware needed to generate the data; and data are just incidental to our real mission, which is knowledg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data and the exploration tools are on the web, the value of large facilities ownership should be re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 are (relatively) cheap, but </a:t>
            </a: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software is expen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especially if you are not approaching it in a smar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formation Technology </a:t>
            </a:r>
            <a:r>
              <a:rPr b="1" lang="en-US" sz="4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New Science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6360" y="934560"/>
            <a:ext cx="8685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volume grows exponent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0f18"/>
                </a:solidFill>
                <a:latin typeface="Times New Roman"/>
              </a:rPr>
              <a:t>Most data will never be seen by huma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ed for data storage, network, database-related technologies, standard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complexity is also increasing grea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0f18"/>
                </a:solidFill>
                <a:latin typeface="Times New Roman"/>
              </a:rPr>
              <a:t>Most data (and data constructs) cannot be comprehended by humans direct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ed for data mining, KDD, data understanding technologies, hyperdimensional visualization, AI/Machine-assisted discover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create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 new scientific method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basis of applied CS an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 is the framework to effect this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457200" y="1925640"/>
            <a:ext cx="457200" cy="304920"/>
          </a:xfrm>
          <a:prstGeom prst="rightArrow">
            <a:avLst>
              <a:gd name="adj1" fmla="val 43333"/>
              <a:gd name="adj2" fmla="val 56228"/>
            </a:avLst>
          </a:prstGeom>
          <a:solidFill>
            <a:srgbClr val="9c08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457200" y="4211640"/>
            <a:ext cx="457200" cy="304920"/>
          </a:xfrm>
          <a:prstGeom prst="rightArrow">
            <a:avLst>
              <a:gd name="adj1" fmla="val 43333"/>
              <a:gd name="adj2" fmla="val 56228"/>
            </a:avLst>
          </a:prstGeom>
          <a:solidFill>
            <a:srgbClr val="9c08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 Readings: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ick summar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Observatory: From Concept to Implementation”, Djorgovski, S.G., &amp; Williams, R. 2005, A.S.P. Conf. Ser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517, available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ttp://arXiv.org/abs/astro-ph/0504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iginal VO White Pap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 a National Virtual Observatory: Science Goals, Technical Challenges, and Implementation Plan”, in Virtual Observatories of the Future, A.S.P. Conf. Ser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53, available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ttp://arXiv.org/abs/astro-ph/0108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VO SDT report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ttp://www.us-vo.org/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ther good documents available 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ttp://us-vo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specially the summer school presen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documents 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ttp://www.ivoa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Astronomy Has Become Very Data-Rich</a:t>
            </a:r>
            <a:endParaRPr b="1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067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digital sky survey now generates ~ 10 - 100 TB, plus a comparable amount of derived data produ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-scale data sets are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tronomy today has ~ 1 - 2 PB of archived data, and generates a few TB/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th data volumes and data rates grow exponentially, with a doubling time ~ 1.5 ye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en more important is the growth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ata complex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7b0a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b0a15"/>
                </a:solidFill>
                <a:latin typeface="Times New Roman"/>
              </a:rPr>
              <a:t>For comparis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5"/>
                </a:solidFill>
                <a:latin typeface="Times New Roman"/>
              </a:rPr>
              <a:t>Human memory ~ a few hundred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5"/>
                </a:solidFill>
                <a:latin typeface="Times New Roman"/>
              </a:rPr>
              <a:t>Human Genome &lt; 1 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5"/>
                </a:solidFill>
                <a:latin typeface="Times New Roman"/>
              </a:rPr>
              <a:t>1 TB ~ 2 million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5"/>
                </a:solidFill>
                <a:latin typeface="Times New Roman"/>
              </a:rPr>
              <a:t>Library of Congress (print only) ~ 30 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possessed-books"/>
          <p:cNvPicPr/>
          <p:nvPr/>
        </p:nvPicPr>
        <p:blipFill>
          <a:blip r:embed="rId1"/>
          <a:srcRect l="20805" t="4800" r="19200" b="4800"/>
          <a:stretch/>
        </p:blipFill>
        <p:spPr>
          <a:xfrm>
            <a:off x="7016760" y="4494240"/>
            <a:ext cx="20509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26"/>
          <p:cNvSpPr/>
          <p:nvPr/>
        </p:nvSpPr>
        <p:spPr>
          <a:xfrm>
            <a:off x="3962520" y="76320"/>
            <a:ext cx="5029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xponential Growth in Data Volumes and </a:t>
            </a:r>
            <a:r>
              <a:rPr b="1" i="1" lang="en-US" sz="4000" spc="-1" strike="noStrike">
                <a:solidFill>
                  <a:srgbClr val="9c0808"/>
                </a:solidFill>
                <a:latin typeface="Times New Roman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27" descr=""/>
          <p:cNvPicPr/>
          <p:nvPr/>
        </p:nvPicPr>
        <p:blipFill>
          <a:blip r:embed="rId1"/>
          <a:srcRect l="4329" t="8659" r="4329" b="12988"/>
          <a:stretch/>
        </p:blipFill>
        <p:spPr>
          <a:xfrm>
            <a:off x="4729320" y="2212920"/>
            <a:ext cx="2128680" cy="1825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28"/>
          <p:cNvSpPr/>
          <p:nvPr/>
        </p:nvSpPr>
        <p:spPr>
          <a:xfrm>
            <a:off x="5110200" y="36576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2b"/>
                </a:solidFill>
                <a:latin typeface="Times New Roman"/>
              </a:rPr>
              <a:t>Visible + X-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29"/>
          <p:cNvSpPr/>
          <p:nvPr/>
        </p:nvSpPr>
        <p:spPr>
          <a:xfrm>
            <a:off x="4731120" y="2209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2b"/>
                </a:solidFill>
                <a:latin typeface="Times New Roman"/>
              </a:rPr>
              <a:t>Cr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30" descr=""/>
          <p:cNvPicPr/>
          <p:nvPr/>
        </p:nvPicPr>
        <p:blipFill>
          <a:blip r:embed="rId2"/>
          <a:srcRect l="13114" t="8798" r="7869" b="17597"/>
          <a:stretch/>
        </p:blipFill>
        <p:spPr>
          <a:xfrm>
            <a:off x="6873840" y="2211480"/>
            <a:ext cx="2193840" cy="1827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31"/>
          <p:cNvSpPr/>
          <p:nvPr/>
        </p:nvSpPr>
        <p:spPr>
          <a:xfrm>
            <a:off x="6826320" y="22096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2b"/>
                </a:solidFill>
                <a:latin typeface="Times New Roman"/>
              </a:rPr>
              <a:t>Star forming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7498080" y="3581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o + 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52280" y="4083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b0a15"/>
                </a:solidFill>
                <a:latin typeface="Times New Roman"/>
              </a:rPr>
              <a:t>Understanding of complex phenomena requires complex dat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37"/>
          <p:cNvSpPr/>
          <p:nvPr/>
        </p:nvSpPr>
        <p:spPr>
          <a:xfrm>
            <a:off x="76320" y="2743200"/>
            <a:ext cx="4495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fusion leads to a more complete, less biased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so: multi-scale, multi-epoch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38" descr=""/>
          <p:cNvPicPr/>
          <p:nvPr/>
        </p:nvPicPr>
        <p:blipFill>
          <a:blip r:embed="rId3"/>
          <a:stretch/>
        </p:blipFill>
        <p:spPr>
          <a:xfrm>
            <a:off x="0" y="4568760"/>
            <a:ext cx="2376360" cy="228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9" descr="Q4_zoomslice_020"/>
          <p:cNvPicPr/>
          <p:nvPr/>
        </p:nvPicPr>
        <p:blipFill>
          <a:blip r:embed="rId4"/>
          <a:srcRect l="18003" t="10800" r="31200" b="10800"/>
          <a:stretch/>
        </p:blipFill>
        <p:spPr>
          <a:xfrm>
            <a:off x="2362320" y="4575240"/>
            <a:ext cx="2217600" cy="2282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40"/>
          <p:cNvSpPr/>
          <p:nvPr/>
        </p:nvSpPr>
        <p:spPr>
          <a:xfrm>
            <a:off x="4800600" y="4724280"/>
            <a:ext cx="41911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imulations are also producing many TB’s of very complex “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Times New Roman"/>
              </a:rPr>
              <a:t>Data + Theory = Understand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0"/>
          <a:ext cx="3809880" cy="2771640"/>
        </p:xfrm>
        <a:graphic>
          <a:graphicData uri="http://schemas.openxmlformats.org/presentationml/2006/ole">
            <p:oleObj progId="Excel.Sheet.12" r:id="rId5" spid="">
              <p:embed/>
            </p:oleObj>
          </a:graphicData>
        </a:graphic>
      </p:graphicFrame>
      <p:sp>
        <p:nvSpPr>
          <p:cNvPr id="66" name="AutoShape 1042"/>
          <p:cNvSpPr/>
          <p:nvPr/>
        </p:nvSpPr>
        <p:spPr>
          <a:xfrm>
            <a:off x="380880" y="457200"/>
            <a:ext cx="2057400" cy="380880"/>
          </a:xfrm>
          <a:prstGeom prst="wedgeRoundRectCallout">
            <a:avLst>
              <a:gd name="adj1" fmla="val 39273"/>
              <a:gd name="adj2" fmla="val 98750"/>
              <a:gd name="adj3" fmla="val 16667"/>
            </a:avLst>
          </a:prstGeom>
          <a:solidFill>
            <a:srgbClr val="fff9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43"/>
          <p:cNvSpPr/>
          <p:nvPr/>
        </p:nvSpPr>
        <p:spPr>
          <a:xfrm>
            <a:off x="382680" y="4572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ing t ≈ 1.5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45"/>
          <p:cNvSpPr/>
          <p:nvPr/>
        </p:nvSpPr>
        <p:spPr>
          <a:xfrm>
            <a:off x="3505320" y="13842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B’s to PB’s of dat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ourc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am./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rchive Archipelago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88390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the data sets kept increasing, a number of archives, data depositories, and digital library services were cre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of them are mission-, domain-, or observatory-specific, distinct and independent scientifically, technologically, institutionally, heterogeneous in look-feel, usage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a considerable replication of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some functional redund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almost no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tandards have been generally adopted (e.g., F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of them were primarily designed for single-object (or single-pointing) queries - and thu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herently unsuitable for the science enabled by the massive and complex data s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ext step was clearly to connect them in a functional manner, and develop interoperability standards, format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2286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Virtual Observatory Con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52280" y="914400"/>
            <a:ext cx="8991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lete, dynamical, distributed, open </a:t>
            </a:r>
            <a:r>
              <a:rPr b="1" i="1" lang="en-US" sz="2800" spc="-1" strike="noStrike">
                <a:solidFill>
                  <a:srgbClr val="9c0818"/>
                </a:solidFill>
                <a:latin typeface="Times New Roman"/>
              </a:rPr>
              <a:t>research environment for the new astronomy with massive and complex data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09680"/>
            <a:ext cx="350532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vide and federate content (data, metadata) services, standards, and analysis/compute servi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velop and provide data exploration and discovery too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t just the archives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part of a broader Cyber-Infrastructure and e-Science move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82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6" descr="Picture 1"/>
          <p:cNvPicPr/>
          <p:nvPr/>
        </p:nvPicPr>
        <p:blipFill>
          <a:blip r:embed="rId2"/>
          <a:stretch/>
        </p:blipFill>
        <p:spPr>
          <a:xfrm>
            <a:off x="4191120" y="5870520"/>
            <a:ext cx="1114200" cy="91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Picture 2"/>
          <p:cNvPicPr/>
          <p:nvPr/>
        </p:nvPicPr>
        <p:blipFill>
          <a:blip r:embed="rId3"/>
          <a:srcRect l="5124" t="11119" r="2569" b="5560"/>
          <a:stretch/>
        </p:blipFill>
        <p:spPr>
          <a:xfrm>
            <a:off x="5351400" y="5869080"/>
            <a:ext cx="1096920" cy="91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Picture 3"/>
          <p:cNvPicPr/>
          <p:nvPr/>
        </p:nvPicPr>
        <p:blipFill>
          <a:blip r:embed="rId4"/>
          <a:srcRect l="21952" t="0" r="4390" b="3538"/>
          <a:stretch/>
        </p:blipFill>
        <p:spPr>
          <a:xfrm>
            <a:off x="6485040" y="5872320"/>
            <a:ext cx="1116000" cy="909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9"/>
          <p:cNvSpPr/>
          <p:nvPr/>
        </p:nvSpPr>
        <p:spPr>
          <a:xfrm>
            <a:off x="4695840" y="5410080"/>
            <a:ext cx="257040" cy="519120"/>
          </a:xfrm>
          <a:prstGeom prst="upArrow">
            <a:avLst>
              <a:gd name="adj1" fmla="val 49528"/>
              <a:gd name="adj2" fmla="val 89891"/>
            </a:avLst>
          </a:prstGeom>
          <a:solidFill>
            <a:srgbClr val="a910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5762520" y="5410080"/>
            <a:ext cx="257400" cy="519120"/>
          </a:xfrm>
          <a:prstGeom prst="upArrow">
            <a:avLst>
              <a:gd name="adj1" fmla="val 49528"/>
              <a:gd name="adj2" fmla="val 89765"/>
            </a:avLst>
          </a:prstGeom>
          <a:solidFill>
            <a:srgbClr val="a910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781680" y="5410080"/>
            <a:ext cx="257400" cy="519120"/>
          </a:xfrm>
          <a:prstGeom prst="upArrow">
            <a:avLst>
              <a:gd name="adj1" fmla="val 49528"/>
              <a:gd name="adj2" fmla="val 89765"/>
            </a:avLst>
          </a:prstGeom>
          <a:solidFill>
            <a:srgbClr val="a910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Picture 4"/>
          <p:cNvPicPr/>
          <p:nvPr/>
        </p:nvPicPr>
        <p:blipFill>
          <a:blip r:embed="rId5"/>
          <a:srcRect l="7236" t="8181" r="7236" b="4101"/>
          <a:stretch/>
        </p:blipFill>
        <p:spPr>
          <a:xfrm>
            <a:off x="7620120" y="5867280"/>
            <a:ext cx="1014120" cy="9208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3"/>
          <p:cNvSpPr/>
          <p:nvPr/>
        </p:nvSpPr>
        <p:spPr>
          <a:xfrm>
            <a:off x="7772400" y="5410080"/>
            <a:ext cx="257040" cy="519120"/>
          </a:xfrm>
          <a:prstGeom prst="upArrow">
            <a:avLst>
              <a:gd name="adj1" fmla="val 49528"/>
              <a:gd name="adj2" fmla="val 89891"/>
            </a:avLst>
          </a:prstGeom>
          <a:solidFill>
            <a:srgbClr val="a910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 rot="16137600">
            <a:off x="3266640" y="2361600"/>
            <a:ext cx="609480" cy="60984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343320" y="2362320"/>
            <a:ext cx="457200" cy="53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3952800" y="266688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724200" y="281952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705640" y="4000680"/>
            <a:ext cx="685800" cy="64764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7467480" y="4000680"/>
            <a:ext cx="685800" cy="64764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8"/>
          <p:cNvSpPr/>
          <p:nvPr/>
        </p:nvSpPr>
        <p:spPr>
          <a:xfrm rot="16137600">
            <a:off x="7381800" y="2514240"/>
            <a:ext cx="838080" cy="83844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458120" y="2514600"/>
            <a:ext cx="685800" cy="685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5172120" y="2438280"/>
            <a:ext cx="1676520" cy="990720"/>
          </a:xfrm>
          <a:prstGeom prst="flowChartAlternateProcess">
            <a:avLst/>
          </a:prstGeom>
          <a:solidFill>
            <a:srgbClr val="fff9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714920" y="281952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6924600" y="281952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5934240" y="3519360"/>
            <a:ext cx="228600" cy="443160"/>
          </a:xfrm>
          <a:prstGeom prst="downArrow">
            <a:avLst>
              <a:gd name="adj1" fmla="val 50000"/>
              <a:gd name="adj2" fmla="val 4846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7610400" y="344340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007080" y="1824120"/>
            <a:ext cx="11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877920" y="22795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7240680" y="1979640"/>
            <a:ext cx="119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402240" y="409896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5155560" y="258444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9840" y="90360"/>
            <a:ext cx="893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From Traditional to Survey to VO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304920" y="5226120"/>
            <a:ext cx="8686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successful, but inherently limited by the information content of individual sky surveys …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at comes next, beyond survey science is th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O sc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5705640" y="137160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5934240" y="190512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gradFill rotWithShape="0">
            <a:gsLst>
              <a:gs pos="0">
                <a:srgbClr val="fdff80"/>
              </a:gs>
              <a:gs pos="100000">
                <a:srgbClr val="d8da6d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6375240" y="134136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other Survey/Archi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1143000" y="4000680"/>
            <a:ext cx="685800" cy="64764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6"/>
          <p:cNvSpPr/>
          <p:nvPr/>
        </p:nvSpPr>
        <p:spPr>
          <a:xfrm rot="16137600">
            <a:off x="1103040" y="1482120"/>
            <a:ext cx="917640" cy="99072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7"/>
          <p:cNvSpPr/>
          <p:nvPr/>
        </p:nvSpPr>
        <p:spPr>
          <a:xfrm>
            <a:off x="1143000" y="1523880"/>
            <a:ext cx="838080" cy="685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8"/>
          <p:cNvSpPr/>
          <p:nvPr/>
        </p:nvSpPr>
        <p:spPr>
          <a:xfrm>
            <a:off x="1371600" y="344340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9"/>
          <p:cNvSpPr/>
          <p:nvPr/>
        </p:nvSpPr>
        <p:spPr>
          <a:xfrm>
            <a:off x="762120" y="2971800"/>
            <a:ext cx="1600200" cy="380880"/>
          </a:xfrm>
          <a:prstGeom prst="flowChartAlternateProcess">
            <a:avLst/>
          </a:prstGeom>
          <a:solidFill>
            <a:srgbClr val="fff9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0"/>
          <p:cNvSpPr/>
          <p:nvPr/>
        </p:nvSpPr>
        <p:spPr>
          <a:xfrm>
            <a:off x="1371600" y="2438280"/>
            <a:ext cx="228600" cy="443160"/>
          </a:xfrm>
          <a:prstGeom prst="downArrow">
            <a:avLst>
              <a:gd name="adj1" fmla="val 50000"/>
              <a:gd name="adj2" fmla="val 4846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838800" y="296532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1830240" y="409896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991080" y="191304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4"/>
          <p:cNvSpPr/>
          <p:nvPr/>
        </p:nvSpPr>
        <p:spPr>
          <a:xfrm>
            <a:off x="591480" y="944640"/>
            <a:ext cx="1707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raditional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3437640" y="996840"/>
            <a:ext cx="2001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rvey-Bas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 rot="16137600">
            <a:off x="1523520" y="2407680"/>
            <a:ext cx="609480" cy="60984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600200" y="2408400"/>
            <a:ext cx="457200" cy="53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209680" y="271296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981080" y="286560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5410080" y="4503600"/>
            <a:ext cx="685800" cy="64800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4038480" y="4503600"/>
            <a:ext cx="685800" cy="64800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 rot="16137600">
            <a:off x="6933960" y="3169800"/>
            <a:ext cx="838440" cy="83808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7010280" y="3170160"/>
            <a:ext cx="685800" cy="685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4114800" y="2179800"/>
            <a:ext cx="1905120" cy="1752480"/>
          </a:xfrm>
          <a:prstGeom prst="flowChartAlternateProcess">
            <a:avLst/>
          </a:prstGeom>
          <a:solidFill>
            <a:srgbClr val="fff9a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505320" y="2560680"/>
            <a:ext cx="533160" cy="1019160"/>
          </a:xfrm>
          <a:prstGeom prst="rightArrow">
            <a:avLst>
              <a:gd name="adj1" fmla="val 34889"/>
              <a:gd name="adj2" fmla="val 48514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400860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839160" y="1641600"/>
            <a:ext cx="1451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333520" y="1641600"/>
            <a:ext cx="100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752160" y="2174760"/>
            <a:ext cx="1198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497840" y="518940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110120" y="2301840"/>
            <a:ext cx="185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nalys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8"/>
          <p:cNvSpPr/>
          <p:nvPr/>
        </p:nvSpPr>
        <p:spPr>
          <a:xfrm rot="16137600">
            <a:off x="1371240" y="2788560"/>
            <a:ext cx="609480" cy="60948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1447920" y="2789280"/>
            <a:ext cx="457200" cy="53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2057400" y="3094200"/>
            <a:ext cx="685800" cy="45216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1828800" y="3246480"/>
            <a:ext cx="366840" cy="181080"/>
          </a:xfrm>
          <a:prstGeom prst="rightArrow">
            <a:avLst>
              <a:gd name="adj1" fmla="val 50000"/>
              <a:gd name="adj2" fmla="val 50646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2"/>
          <p:cNvSpPr/>
          <p:nvPr/>
        </p:nvSpPr>
        <p:spPr>
          <a:xfrm rot="16137600">
            <a:off x="1032120" y="3210480"/>
            <a:ext cx="833760" cy="76176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3"/>
          <p:cNvSpPr/>
          <p:nvPr/>
        </p:nvSpPr>
        <p:spPr>
          <a:xfrm>
            <a:off x="1143000" y="3174840"/>
            <a:ext cx="609480" cy="53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1905120" y="347976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5"/>
          <p:cNvSpPr/>
          <p:nvPr/>
        </p:nvSpPr>
        <p:spPr>
          <a:xfrm>
            <a:off x="1676520" y="3632040"/>
            <a:ext cx="366480" cy="181080"/>
          </a:xfrm>
          <a:prstGeom prst="rightArrow">
            <a:avLst>
              <a:gd name="adj1" fmla="val 50000"/>
              <a:gd name="adj2" fmla="val 50596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6"/>
          <p:cNvSpPr/>
          <p:nvPr/>
        </p:nvSpPr>
        <p:spPr>
          <a:xfrm>
            <a:off x="2209680" y="461808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7"/>
          <p:cNvSpPr/>
          <p:nvPr/>
        </p:nvSpPr>
        <p:spPr>
          <a:xfrm>
            <a:off x="1905120" y="4770360"/>
            <a:ext cx="366480" cy="181080"/>
          </a:xfrm>
          <a:prstGeom prst="rightArrow">
            <a:avLst>
              <a:gd name="adj1" fmla="val 50000"/>
              <a:gd name="adj2" fmla="val 50596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8"/>
          <p:cNvSpPr/>
          <p:nvPr/>
        </p:nvSpPr>
        <p:spPr>
          <a:xfrm rot="16137600">
            <a:off x="7238520" y="3702960"/>
            <a:ext cx="609480" cy="609840"/>
          </a:xfrm>
          <a:prstGeom prst="flowChartDelay">
            <a:avLst/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9"/>
          <p:cNvSpPr/>
          <p:nvPr/>
        </p:nvSpPr>
        <p:spPr>
          <a:xfrm>
            <a:off x="7315200" y="3703680"/>
            <a:ext cx="457200" cy="53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0"/>
          <p:cNvSpPr/>
          <p:nvPr/>
        </p:nvSpPr>
        <p:spPr>
          <a:xfrm rot="17905200">
            <a:off x="1176840" y="4050000"/>
            <a:ext cx="264960" cy="48600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1"/>
          <p:cNvSpPr/>
          <p:nvPr/>
        </p:nvSpPr>
        <p:spPr>
          <a:xfrm>
            <a:off x="1465200" y="3981600"/>
            <a:ext cx="457200" cy="304560"/>
          </a:xfrm>
          <a:prstGeom prst="parallelogram">
            <a:avLst>
              <a:gd name="adj" fmla="val 77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32"/>
          <p:cNvSpPr/>
          <p:nvPr/>
        </p:nvSpPr>
        <p:spPr>
          <a:xfrm rot="17905200">
            <a:off x="1462680" y="4288320"/>
            <a:ext cx="365040" cy="36036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3"/>
          <p:cNvSpPr/>
          <p:nvPr/>
        </p:nvSpPr>
        <p:spPr>
          <a:xfrm>
            <a:off x="1084320" y="4514760"/>
            <a:ext cx="457200" cy="304920"/>
          </a:xfrm>
          <a:prstGeom prst="parallelogram">
            <a:avLst>
              <a:gd name="adj" fmla="val 773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4"/>
          <p:cNvSpPr/>
          <p:nvPr/>
        </p:nvSpPr>
        <p:spPr>
          <a:xfrm rot="17905200">
            <a:off x="1311840" y="4610520"/>
            <a:ext cx="264960" cy="48600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5"/>
          <p:cNvSpPr/>
          <p:nvPr/>
        </p:nvSpPr>
        <p:spPr>
          <a:xfrm>
            <a:off x="1600200" y="4541760"/>
            <a:ext cx="457200" cy="304920"/>
          </a:xfrm>
          <a:prstGeom prst="parallelogram">
            <a:avLst>
              <a:gd name="adj" fmla="val 773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6"/>
          <p:cNvSpPr/>
          <p:nvPr/>
        </p:nvSpPr>
        <p:spPr>
          <a:xfrm rot="17905200">
            <a:off x="1597680" y="4848840"/>
            <a:ext cx="365040" cy="36036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7"/>
          <p:cNvSpPr/>
          <p:nvPr/>
        </p:nvSpPr>
        <p:spPr>
          <a:xfrm>
            <a:off x="1219320" y="5075280"/>
            <a:ext cx="457200" cy="304920"/>
          </a:xfrm>
          <a:prstGeom prst="parallelogram">
            <a:avLst>
              <a:gd name="adj" fmla="val 773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8"/>
          <p:cNvSpPr/>
          <p:nvPr/>
        </p:nvSpPr>
        <p:spPr>
          <a:xfrm>
            <a:off x="2057400" y="4084560"/>
            <a:ext cx="685800" cy="452520"/>
          </a:xfrm>
          <a:prstGeom prst="can">
            <a:avLst>
              <a:gd name="adj" fmla="val 25000"/>
            </a:avLst>
          </a:prstGeom>
          <a:solidFill>
            <a:srgbClr val="ff1e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9"/>
          <p:cNvSpPr/>
          <p:nvPr/>
        </p:nvSpPr>
        <p:spPr>
          <a:xfrm>
            <a:off x="1752480" y="4237200"/>
            <a:ext cx="366840" cy="180720"/>
          </a:xfrm>
          <a:prstGeom prst="rightArrow">
            <a:avLst>
              <a:gd name="adj1" fmla="val 50000"/>
              <a:gd name="adj2" fmla="val 50747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0"/>
          <p:cNvSpPr/>
          <p:nvPr/>
        </p:nvSpPr>
        <p:spPr>
          <a:xfrm>
            <a:off x="1905120" y="5151600"/>
            <a:ext cx="838080" cy="609480"/>
          </a:xfrm>
          <a:prstGeom prst="flowChartMultidocument">
            <a:avLst/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1"/>
          <p:cNvSpPr/>
          <p:nvPr/>
        </p:nvSpPr>
        <p:spPr>
          <a:xfrm rot="17905200">
            <a:off x="7120440" y="4457880"/>
            <a:ext cx="265320" cy="48600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2"/>
          <p:cNvSpPr/>
          <p:nvPr/>
        </p:nvSpPr>
        <p:spPr>
          <a:xfrm>
            <a:off x="7408800" y="4389480"/>
            <a:ext cx="457200" cy="304920"/>
          </a:xfrm>
          <a:prstGeom prst="parallelogram">
            <a:avLst>
              <a:gd name="adj" fmla="val 773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3"/>
          <p:cNvSpPr/>
          <p:nvPr/>
        </p:nvSpPr>
        <p:spPr>
          <a:xfrm rot="17905200">
            <a:off x="7406280" y="4696560"/>
            <a:ext cx="365040" cy="360360"/>
          </a:xfrm>
          <a:prstGeom prst="can">
            <a:avLst>
              <a:gd name="adj" fmla="val 25000"/>
            </a:avLst>
          </a:prstGeom>
          <a:solidFill>
            <a:srgbClr val="7d7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7027920" y="4923000"/>
            <a:ext cx="457200" cy="304560"/>
          </a:xfrm>
          <a:prstGeom prst="parallelogram">
            <a:avLst>
              <a:gd name="adj" fmla="val 77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5"/>
          <p:cNvSpPr/>
          <p:nvPr/>
        </p:nvSpPr>
        <p:spPr>
          <a:xfrm>
            <a:off x="1371240" y="57546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6"/>
          <p:cNvSpPr/>
          <p:nvPr/>
        </p:nvSpPr>
        <p:spPr>
          <a:xfrm>
            <a:off x="762120" y="1569960"/>
            <a:ext cx="266688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7"/>
          <p:cNvSpPr/>
          <p:nvPr/>
        </p:nvSpPr>
        <p:spPr>
          <a:xfrm>
            <a:off x="6705720" y="2103480"/>
            <a:ext cx="1371600" cy="327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683640" y="1135080"/>
            <a:ext cx="281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Data Provi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9"/>
          <p:cNvSpPr/>
          <p:nvPr/>
        </p:nvSpPr>
        <p:spPr>
          <a:xfrm>
            <a:off x="4573080" y="1469880"/>
            <a:ext cx="951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V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6095880" y="2560680"/>
            <a:ext cx="533520" cy="1019160"/>
          </a:xfrm>
          <a:prstGeom prst="rightArrow">
            <a:avLst>
              <a:gd name="adj1" fmla="val 34889"/>
              <a:gd name="adj2" fmla="val 48514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1"/>
          <p:cNvSpPr/>
          <p:nvPr/>
        </p:nvSpPr>
        <p:spPr>
          <a:xfrm rot="5412600">
            <a:off x="5883840" y="1053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8880 h 1214280"/>
              <a:gd name="textAreaBottom" fmla="*/ 8226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92" stAng="-5400000" swAng="-5400000"/>
                <a:lnTo>
                  <a:pt x="0" y="10735"/>
                </a:lnTo>
                <a:arcTo wR="21600" hR="7792" stAng="10800000" swAng="-3033704"/>
                <a:lnTo>
                  <a:pt x="15456" y="21278"/>
                </a:lnTo>
                <a:lnTo>
                  <a:pt x="21600" y="17055"/>
                </a:lnTo>
                <a:lnTo>
                  <a:pt x="15456" y="12187"/>
                </a:lnTo>
                <a:lnTo>
                  <a:pt x="15456" y="15261"/>
                </a:lnTo>
                <a:arcTo wR="21600" hR="7792" stAng="7766296" swAng="2795598"/>
                <a:lnTo>
                  <a:pt x="389" y="9263"/>
                </a:lnTo>
                <a:arcTo wR="21600" hR="7792" stAng="-10561893" swAng="5161893"/>
                <a:close/>
              </a:path>
              <a:path fill="darkenLess" w="21600" h="21600">
                <a:moveTo>
                  <a:pt x="21600" y="0"/>
                </a:moveTo>
                <a:arcTo wR="21600" hR="7792" stAng="-5400000" swAng="-5400000"/>
                <a:lnTo>
                  <a:pt x="0" y="7792"/>
                </a:lnTo>
                <a:arcTo wR="21600" hR="7792" stAng="10800000" swAng="-238107"/>
                <a:lnTo>
                  <a:pt x="389" y="9263"/>
                </a:lnTo>
                <a:arcTo wR="21600" hR="7792" stAng="-10561893" swAng="5161893"/>
                <a:close/>
              </a:path>
            </a:pathLst>
          </a:cu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6798240" y="1278000"/>
            <a:ext cx="12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3"/>
          <p:cNvSpPr/>
          <p:nvPr/>
        </p:nvSpPr>
        <p:spPr>
          <a:xfrm rot="10801200">
            <a:off x="2819520" y="5549040"/>
            <a:ext cx="2287440" cy="287640"/>
          </a:xfrm>
          <a:prstGeom prst="pie">
            <a:avLst/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4"/>
          <p:cNvSpPr/>
          <p:nvPr/>
        </p:nvSpPr>
        <p:spPr>
          <a:xfrm>
            <a:off x="4724280" y="4503600"/>
            <a:ext cx="685800" cy="648000"/>
          </a:xfrm>
          <a:prstGeom prst="verticalScroll">
            <a:avLst>
              <a:gd name="adj" fmla="val 12500"/>
            </a:avLst>
          </a:prstGeom>
          <a:solidFill>
            <a:srgbClr val="c3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5"/>
          <p:cNvSpPr/>
          <p:nvPr/>
        </p:nvSpPr>
        <p:spPr>
          <a:xfrm>
            <a:off x="3519360" y="4694400"/>
            <a:ext cx="519120" cy="257040"/>
          </a:xfrm>
          <a:prstGeom prst="rightArrow">
            <a:avLst>
              <a:gd name="adj1" fmla="val 50000"/>
              <a:gd name="adj2" fmla="val 50490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56"/>
          <p:cNvSpPr/>
          <p:nvPr/>
        </p:nvSpPr>
        <p:spPr>
          <a:xfrm rot="10773600">
            <a:off x="6095880" y="4694040"/>
            <a:ext cx="519120" cy="257040"/>
          </a:xfrm>
          <a:prstGeom prst="rightArrow">
            <a:avLst>
              <a:gd name="adj1" fmla="val 50000"/>
              <a:gd name="adj2" fmla="val 50490"/>
            </a:avLst>
          </a:prstGeom>
          <a:solidFill>
            <a:srgbClr val="fffb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7"/>
          <p:cNvSpPr/>
          <p:nvPr/>
        </p:nvSpPr>
        <p:spPr>
          <a:xfrm>
            <a:off x="152280" y="152280"/>
            <a:ext cx="8915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A Systemic View of the VO-Based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5516280" y="5568840"/>
            <a:ext cx="30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VO connects the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system of astrono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070a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Brief History of the VO Concept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8915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(pre-web!) ideas already in the “Astrophysics Data System” (only the digital library part survi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developed through 1990’s, mainly from large digital sky surveys (DPOSS, SDSS…), discussions at conferences and workshops in the late 199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recommendation in the “small projects” category in the NAS Decadal Astronomy &amp; Astrophysics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McKee-Taylor report)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6320" y="3886200"/>
            <a:ext cx="6095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major VO conference at Caltech in 2000; the NVO White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Virtual Observatory Science Definition Team, 2001 -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 conferences, 2001 -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orous international efforts, coordinated via International VO Alliance (IVO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6230880" y="3200400"/>
            <a:ext cx="2836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O Development and Status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SF-funded framework development project (2001-2008): the U.S. National Virtual Observatory (NV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w into a facility regime: Virtual Astro. Obs. (VA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int funding by the NSF and NA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 largely done in the existing data archives, and thus very data-centr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gorous international efforts (IVO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Picture 5"/>
          <p:cNvPicPr/>
          <p:nvPr/>
        </p:nvPicPr>
        <p:blipFill>
          <a:blip r:embed="rId1"/>
          <a:stretch/>
        </p:blipFill>
        <p:spPr>
          <a:xfrm>
            <a:off x="0" y="3827520"/>
            <a:ext cx="5603760" cy="301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Picture 6" descr="ivoa-members"/>
          <p:cNvPicPr/>
          <p:nvPr/>
        </p:nvPicPr>
        <p:blipFill>
          <a:blip r:embed="rId2"/>
          <a:stretch/>
        </p:blipFill>
        <p:spPr>
          <a:xfrm>
            <a:off x="4876920" y="3838680"/>
            <a:ext cx="4278240" cy="301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2" name="Rectangle 7"/>
          <p:cNvSpPr/>
          <p:nvPr/>
        </p:nvSpPr>
        <p:spPr>
          <a:xfrm>
            <a:off x="1371600" y="5791320"/>
            <a:ext cx="2362320" cy="457200"/>
          </a:xfrm>
          <a:prstGeom prst="rect">
            <a:avLst/>
          </a:prstGeom>
          <a:solidFill>
            <a:srgbClr val="fff9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http://us-vo.o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943600" y="5791320"/>
            <a:ext cx="2133720" cy="380880"/>
          </a:xfrm>
          <a:prstGeom prst="rect">
            <a:avLst/>
          </a:prstGeom>
          <a:solidFill>
            <a:srgbClr val="fff97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http:// ivoa.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23:33:42Z</dcterms:created>
  <dc:creator/>
  <dc:description/>
  <dc:language>en-US</dc:language>
  <cp:lastModifiedBy>George Djorgovski</cp:lastModifiedBy>
  <cp:lastPrinted>2007-06-17T05:00:44Z</cp:lastPrinted>
  <dcterms:modified xsi:type="dcterms:W3CDTF">2009-07-08T02:30:44Z</dcterms:modified>
  <cp:revision>63</cp:revision>
  <dc:subject/>
  <dc:title>PowerPoint Presentation</dc:title>
</cp:coreProperties>
</file>